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AF1C-2B08-4B28-BDEC-E949ECD081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C09-B1D9-4607-977D-37DEADC0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149-D5E6-4F33-BFD1-103A828E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CD2-38C0-496B-BC84-22ADDBB0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85C-650C-46DA-96B8-26A9E4C8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FB29-F88F-43C6-ACBE-5DF50DDB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2DB4-AD12-4B18-A9EE-246EA755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6442-A2DC-4870-88BC-BACBAA62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94E4-6727-4881-95C3-ED99D01C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5DF6-73B6-45E6-A9B0-0E8EEF2D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DB80-DCBB-4273-8CC6-F160D104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C8B3-1271-40B8-B8FF-09B099C5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3A9-12AF-47DE-A9C2-623710EC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3875-7884-45C2-8736-2BBAD14F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0D4B-E872-470D-9F47-A43CA0FB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D33F-2453-4D57-964E-EF176EA1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81E7-E939-4C2B-B9E8-E527D134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C8D1-8C0B-4A20-826E-F41EC010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DBB-F216-4980-9DE7-A3EF401D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663-27A7-4218-90D1-A223106F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AA9-5202-4F63-82B9-005D7FA2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FA3-6327-4D74-BDD9-39A71156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411-26A2-40B0-9EA5-335FFF16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710-6188-4AE8-B939-7F3BE060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FC0-31DE-4A80-A5FC-027F2CD6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67DE-D403-499D-AEB9-DDA45FC4C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D914-3801-4BA1-95B2-A263EF367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33616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S Biology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Core Principl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881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 presetSubtype="130116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0" presetSubtype="130122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5379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 or tissues are killed and chemically ‘fixed’ in a complicated and harsh treatment (in full detail in table 3.1 pg 52 Rowlan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es this differ to light microscop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treatment can result in alterations to the cell - known as artef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images produce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rcRect l="0" t="0" r="0" b="7411"/>
          <a:stretch/>
        </p:blipFill>
        <p:spPr>
          <a:xfrm>
            <a:off x="3352680" y="2260440"/>
            <a:ext cx="2708280" cy="3581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6248520" y="4470480"/>
            <a:ext cx="213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mission electron micrograph of epithelial cells from a rat small intestin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ale bar = 5 mm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Scanning EM microscopes the electrons bounce off the surface of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e images with a three-dimensional 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 detailed study of sur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rcRect l="0" t="8390" r="0" b="10688"/>
          <a:stretch/>
        </p:blipFill>
        <p:spPr>
          <a:xfrm>
            <a:off x="5562720" y="2666880"/>
            <a:ext cx="3382920" cy="23688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9" name="sem.mov" descr="sem"/>
          <p:cNvPicPr/>
          <p:nvPr/>
        </p:nvPicPr>
        <p:blipFill>
          <a:blip r:embed="rId1"/>
          <a:stretch/>
        </p:blipFill>
        <p:spPr>
          <a:xfrm>
            <a:off x="2971800" y="28195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1295280" y="1981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atch the following clip explaining S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4495680" cy="3052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nk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learn.co.uk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icroscopy-uk.org.uk/intro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wrn.com/feature/education.a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feic.com/support/tem/transmis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anka.livstek.lth.se:2080/microscopy/foodmicr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ght &amp; Electron Microscop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47920" y="2209680"/>
          <a:ext cx="7010280" cy="429732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n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ure of l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ses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ge s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gn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 of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it can 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67"/>
          <p:cNvSpPr/>
          <p:nvPr/>
        </p:nvSpPr>
        <p:spPr>
          <a:xfrm>
            <a:off x="1371600" y="1523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 &amp; complete the following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im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solving power of light &amp; electron microsco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fference between the light &amp;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mission &amp; scanning electron microscop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es magnify &amp; resolve 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y began in 1665 when Robert Hooke coined the word ‘cells’ to describe the structure of c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about 2 types of microscope - light &amp; 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how they work and the differences between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not how much they magnify that is key - but how well they resolve…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mit of resolution of a microscope is the smallest distance between 2 points that can be seen using a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 measure of the clarity of the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icroscope with a high resolving power will allow 2 small objects which are close together to be seen as 2 distinct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 is inversely proportional to the wavelength of the radiation it 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819520" y="4191120"/>
            <a:ext cx="4019400" cy="1677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97168" presetSubtype="202246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2880" y="1600200"/>
            <a:ext cx="4694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ies of lenses through which ordinary white light can be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cal microscopes can not resolve 2 points closer together than about half (0.45) the wavelength of the light used (450-600n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lose is thi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magnification is the eyepiece magnification multiplied by the objective magn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ximum magnification of a light microscope is x150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no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Electron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4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(negatively charged, very small particles) can behave as 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velength of electrons is about 0.005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limit of resolu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are ‘fired’ from an electron gun at the specimen and onto a fluorescent screen or photographic 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is this technique commonly us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2 types of electron microscopy - transmission and sc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focus an electron beam onto the specimen using electromagn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2880" y="1828800"/>
            <a:ext cx="530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ransmission EM the electrons pass through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men needs to be extremely thin - 10nm to 100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can magnify objects up to 500 000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has made it possible to see the details of and discover new organelles - see page 9 in Coll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22:16:20Z</dcterms:created>
  <dc:creator>Fearghal Kelly</dc:creator>
  <dc:description/>
  <dc:language>en-US</dc:language>
  <cp:lastModifiedBy>LEGION2</cp:lastModifiedBy>
  <dcterms:modified xsi:type="dcterms:W3CDTF">2016-01-11T13:18:03Z</dcterms:modified>
  <cp:revision>33</cp:revision>
  <dc:subject/>
  <dc:title>AS Biology Core Principles</dc:title>
</cp:coreProperties>
</file>